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CA1C-A8C8-4D04-A694-F6511E75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8118-0FFF-4063-9E45-DB7E257967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DA4-6664-4558-9D7C-A880E88A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26A-65E5-4FBC-93B8-EDF1BFB6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5A1-C1AD-407F-A2FC-AC7FF24E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77D-8E3C-49E9-82A5-FB82E12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0D2-C02D-4FBC-BBB3-E9235BC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AD3-6346-40B3-BF33-CC56990A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CA4-D4F4-4AF6-A53A-22CB2B15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A0B-BB94-4EEA-8BBD-A44301C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9C1-27E5-4CD0-981F-45A05FBD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E38-D1B9-41C6-BA9A-56B1F72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7E0-1D65-4B0C-A8C6-3C255132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EAE-7191-4C88-A6CC-B39520F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0D9-D1A2-4020-B643-2886FA8B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Arial"/>
              </a:rPr>
              <a:t>La fecha es el 6 de 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octubre</a:t>
            </a:r>
            <a:r>
              <a:rPr b="0" lang="en-US" sz="3800" spc="-1" strike="noStrike">
                <a:solidFill>
                  <a:srgbClr val="7030a0"/>
                </a:solidFill>
                <a:latin typeface="Arial"/>
              </a:rPr>
              <a:t>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2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ito # 12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es el apartamento de tu sueñ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rooms in the ho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ROOMS%252Bwords"/>
          <p:cNvPicPr/>
          <p:nvPr/>
        </p:nvPicPr>
        <p:blipFill>
          <a:blip r:embed="rId1"/>
          <a:stretch/>
        </p:blipFill>
        <p:spPr>
          <a:xfrm>
            <a:off x="2023920" y="2819520"/>
            <a:ext cx="5748480" cy="3484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482920" y="3505320"/>
            <a:ext cx="10983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572000" y="3505320"/>
            <a:ext cx="1219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629400" y="3184560"/>
            <a:ext cx="10987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514600" y="4861080"/>
            <a:ext cx="14032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616280" y="4861080"/>
            <a:ext cx="10987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ANd9GcQ-8Dxb30VwwItBJE97hG9gxmtHGvBrypvQDkPK5LGB6JJ_5HCQpA"/>
          <p:cNvPicPr/>
          <p:nvPr/>
        </p:nvPicPr>
        <p:blipFill>
          <a:blip r:embed="rId2"/>
          <a:stretch/>
        </p:blipFill>
        <p:spPr>
          <a:xfrm>
            <a:off x="54000" y="4038480"/>
            <a:ext cx="2079720" cy="2163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228168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81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65940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419292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57380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73933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(to ha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es un verbo irregular “-GO” porque en la primera persona TENER termina en “–g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tambien es irregular porque la RAIZ del verbo cam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se conjuga el verbo TE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733920" y="2819520"/>
            <a:ext cx="914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724280" y="3352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905120" y="2514600"/>
            <a:ext cx="209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oot)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3526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629320" y="289548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erminacion (e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5334120" y="32004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289960" y="4292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255400" y="4815000"/>
            <a:ext cx="13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288880" y="54244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557040" y="434340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632640" y="5424480"/>
            <a:ext cx="13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estudi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438280" cy="2182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536400" y="31240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057400" cy="1404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023160" y="28954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04920" y="3706920"/>
            <a:ext cx="2743200" cy="2236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60440" y="5867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660480" y="5486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impr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4"/>
          <a:stretch/>
        </p:blipFill>
        <p:spPr>
          <a:xfrm>
            <a:off x="6248520" y="3581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6410160" y="563868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lib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3543480" y="377208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6"/>
          <a:stretch/>
        </p:blipFill>
        <p:spPr>
          <a:xfrm>
            <a:off x="3352680" y="1252440"/>
            <a:ext cx="1192320" cy="1871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4"/>
          <p:cNvSpPr/>
          <p:nvPr/>
        </p:nvSpPr>
        <p:spPr>
          <a:xfrm>
            <a:off x="3237840" y="3124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l sótano…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51814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a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2197080" cy="3504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743200" y="52578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ec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288612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867280" y="3429000"/>
            <a:ext cx="2438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escal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876920" y="1522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Mas vocabulario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800600" y="1522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2000520" cy="2895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7010280" y="449568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loor Plan of your favorite room in your dream apartment.  You must include all of the furniture and things in the room and make sure you label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MUEBLES DE LA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716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3T15:39:07Z</cp:lastPrinted>
  <dcterms:modified xsi:type="dcterms:W3CDTF">2014-10-06T20:20:11Z</dcterms:modified>
  <cp:revision>30</cp:revision>
  <dc:subject/>
  <dc:title>Me llamo _________ Clase 6 nh/il La fecha es el 10 de marzo del 2011</dc:title>
</cp:coreProperties>
</file>